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127-FB69-4BA5-B0D0-6A849DA5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633-CD27-4FA3-ABC1-E8AE8441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7F1-888F-4740-AC7D-F2F06A29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AFB-58E0-45AE-91C0-CCD86E6B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E28-715B-4769-A61F-121829AA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A5E-B9F3-4D41-885A-8BDD06B0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405-2C11-42B7-B17C-84E906B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B37-184A-4B04-A457-E3725246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FE2-D925-4B38-B72C-05DD60A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BE2-E026-4ACA-A46D-00096A69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FFD-92C4-4426-91A0-1D17A59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86B-CA55-49B7-AB1A-94B6E55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B68E-D1D9-4AC0-AC06-BEAA71E3B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0" y="1295280"/>
            <a:ext cx="4281480" cy="1973160"/>
            <a:chOff x="4572000" y="1295280"/>
            <a:chExt cx="4281480" cy="1973160"/>
          </a:xfrm>
        </p:grpSpPr>
        <p:graphicFrame>
          <p:nvGraphicFramePr>
            <p:cNvPr id="42" name=""/>
            <p:cNvGraphicFramePr/>
            <p:nvPr/>
          </p:nvGraphicFramePr>
          <p:xfrm>
            <a:off x="4648320" y="1295280"/>
            <a:ext cx="4205160" cy="19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295280"/>
                      <a:ext cx="4205160" cy="197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6934320" y="12952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572000" y="1295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460800" y="4140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0480" y="304920"/>
            <a:ext cx="41277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REAT DEPENDENT SOURCES AS 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ADD ONE MORE EQU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02920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5200" y="457200"/>
            <a:ext cx="4341240" cy="946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CONVENTION ABOUT DEPENDEN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LESS OTHERWISE SPECIFIE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VOLTAGE VARIABLES ARE ASSUMED I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mp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ND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Vo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640" y="3048120"/>
            <a:ext cx="455472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THIS EXAMPLE THE MULTIPLIER MUST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463760"/>
          <a:ext cx="32716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463760"/>
                    <a:ext cx="32716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320" y="3581280"/>
                <a:ext cx="3431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  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 Siemen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76320" y="5029200"/>
            <a:ext cx="4244400" cy="1231920"/>
            <a:chOff x="76320" y="5029200"/>
            <a:chExt cx="4244400" cy="1231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6320" y="5029200"/>
                  <a:ext cx="34290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N  ALTERNATIVE  DESCRIPTION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α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SSUMES CURRENT IN  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219760" y="5460840"/>
              <a:ext cx="21009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NITS ARE 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38680" y="1981080"/>
            <a:ext cx="2130480" cy="988920"/>
            <a:chOff x="5638680" y="1981080"/>
            <a:chExt cx="2130480" cy="988920"/>
          </a:xfrm>
        </p:grpSpPr>
        <p:sp>
          <p:nvSpPr>
            <p:cNvPr id="58" name=""/>
            <p:cNvSpPr/>
            <p:nvPr/>
          </p:nvSpPr>
          <p:spPr>
            <a:xfrm>
              <a:off x="5638680" y="1981080"/>
              <a:ext cx="2130480" cy="9889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0" y="624"/>
                  </a:moveTo>
                  <a:lnTo>
                    <a:pt x="0" y="0"/>
                  </a:lnTo>
                  <a:lnTo>
                    <a:pt x="1344" y="0"/>
                  </a:lnTo>
                  <a:lnTo>
                    <a:pt x="1344" y="624"/>
                  </a:lnTo>
                  <a:lnTo>
                    <a:pt x="384" y="62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6360" y="2590200"/>
              <a:ext cx="5007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56680" y="3359160"/>
            <a:ext cx="3167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GLE LOOP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KVL TO DETERMI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4280" y="4181400"/>
            <a:ext cx="4380480" cy="825120"/>
            <a:chOff x="4724280" y="4181400"/>
            <a:chExt cx="4380480" cy="8251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4724280" y="4181400"/>
                  <a:ext cx="334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4763520" y="448632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NE EQUATION, TWO UNKNOWNS.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EXTRA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5334120"/>
            <a:ext cx="3736440" cy="628560"/>
            <a:chOff x="4724280" y="5334120"/>
            <a:chExt cx="3736440" cy="6285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724280" y="5638680"/>
                  <a:ext cx="838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59560" y="5334120"/>
              <a:ext cx="37011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SOLVE FOR THE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40120" y="5943600"/>
            <a:ext cx="1676160" cy="595440"/>
            <a:chOff x="4740120" y="5943600"/>
            <a:chExt cx="1676160" cy="595440"/>
          </a:xfrm>
        </p:grpSpPr>
        <p:grpSp>
          <p:nvGrpSpPr>
            <p:cNvPr id="68" name=""/>
            <p:cNvGrpSpPr/>
            <p:nvPr/>
          </p:nvGrpSpPr>
          <p:grpSpPr>
            <a:xfrm>
              <a:off x="4740120" y="6248520"/>
              <a:ext cx="1676160" cy="290520"/>
              <a:chOff x="4740120" y="6248520"/>
              <a:chExt cx="1676160" cy="29052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4740120" y="6248520"/>
                    <a:ext cx="104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5815080" y="6248520"/>
                    <a:ext cx="601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" name=""/>
            <p:cNvSpPr/>
            <p:nvPr/>
          </p:nvSpPr>
          <p:spPr>
            <a:xfrm>
              <a:off x="4746960" y="5943600"/>
              <a:ext cx="1567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8600"/>
          <a:ext cx="716256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716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17600" y="1844640"/>
            <a:ext cx="658152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V_s IS KNOWN V_0 CAN BE DETERMINED USING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FIND V_s WE HAVE A SINGLE NODE-PAIR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590920"/>
            <a:ext cx="4152600" cy="1281960"/>
            <a:chOff x="76320" y="2590920"/>
            <a:chExt cx="4152600" cy="1281960"/>
          </a:xfrm>
        </p:grpSpPr>
        <p:graphicFrame>
          <p:nvGraphicFramePr>
            <p:cNvPr id="78" name=""/>
            <p:cNvGraphicFramePr/>
            <p:nvPr/>
          </p:nvGraphicFramePr>
          <p:xfrm>
            <a:off x="76320" y="2590920"/>
            <a:ext cx="4038480" cy="72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590920"/>
                      <a:ext cx="4038480" cy="725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1160" y="3352680"/>
              <a:ext cx="4127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LGEBRAICALLY, THERE ARE TWO UNKNOW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D JUST ONE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95680" y="2590920"/>
            <a:ext cx="4595040" cy="1217520"/>
            <a:chOff x="4495680" y="2590920"/>
            <a:chExt cx="4595040" cy="1217520"/>
          </a:xfrm>
        </p:grpSpPr>
        <p:sp>
          <p:nvSpPr>
            <p:cNvPr id="82" name=""/>
            <p:cNvSpPr/>
            <p:nvPr/>
          </p:nvSpPr>
          <p:spPr>
            <a:xfrm>
              <a:off x="4536000" y="2590920"/>
              <a:ext cx="455472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EQUATION FOR THE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THE ADDITIONAL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02160" y="3279600"/>
                  <a:ext cx="1396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84" name=""/>
            <p:cNvGraphicFramePr/>
            <p:nvPr/>
          </p:nvGraphicFramePr>
          <p:xfrm>
            <a:off x="4495680" y="3108240"/>
            <a:ext cx="959040" cy="7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3108240"/>
                      <a:ext cx="959040" cy="70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92160" y="3962520"/>
            <a:ext cx="3504960" cy="1092240"/>
            <a:chOff x="92160" y="3962520"/>
            <a:chExt cx="3504960" cy="1092240"/>
          </a:xfrm>
        </p:grpSpPr>
        <p:graphicFrame>
          <p:nvGraphicFramePr>
            <p:cNvPr id="87" name=""/>
            <p:cNvGraphicFramePr/>
            <p:nvPr/>
          </p:nvGraphicFramePr>
          <p:xfrm>
            <a:off x="92160" y="4208400"/>
            <a:ext cx="3504960" cy="84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160" y="4208400"/>
                      <a:ext cx="3504960" cy="846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06920" y="3962520"/>
              <a:ext cx="29545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BSTITUTION OF I_0 Y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2743200"/>
            <a:ext cx="4577760" cy="3247920"/>
            <a:chOff x="0" y="2743200"/>
            <a:chExt cx="4577760" cy="3247920"/>
          </a:xfrm>
        </p:grpSpPr>
        <p:sp>
          <p:nvSpPr>
            <p:cNvPr id="91" name=""/>
            <p:cNvSpPr/>
            <p:nvPr/>
          </p:nvSpPr>
          <p:spPr>
            <a:xfrm>
              <a:off x="0" y="2743200"/>
              <a:ext cx="1218960" cy="2514600"/>
            </a:xfrm>
            <a:custGeom>
              <a:avLst/>
              <a:gdLst/>
              <a:ahLst/>
              <a:rect l="l" t="t" r="r" b="b"/>
              <a:pathLst>
                <a:path w="768" h="1584">
                  <a:moveTo>
                    <a:pt x="768" y="384"/>
                  </a:moveTo>
                  <a:lnTo>
                    <a:pt x="720" y="48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720" y="336"/>
                  </a:lnTo>
                  <a:lnTo>
                    <a:pt x="0" y="1008"/>
                  </a:lnTo>
                  <a:lnTo>
                    <a:pt x="96" y="1584"/>
                  </a:lnTo>
                  <a:lnTo>
                    <a:pt x="528" y="1584"/>
                  </a:lnTo>
                  <a:lnTo>
                    <a:pt x="528" y="960"/>
                  </a:lnTo>
                  <a:lnTo>
                    <a:pt x="336" y="81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080" y="5257800"/>
              <a:ext cx="423468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CLEVER WAY OF WRITING mA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AVE VOLTS IN ALL NUMERATORS AND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AME UNITS IN DENOMINA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619440" y="4465800"/>
                <a:ext cx="1866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5638680" y="4130640"/>
            <a:ext cx="2451240" cy="822240"/>
            <a:chOff x="5638680" y="4130640"/>
            <a:chExt cx="2451240" cy="822240"/>
          </a:xfrm>
        </p:grpSpPr>
        <p:sp>
          <p:nvSpPr>
            <p:cNvPr id="95" name=""/>
            <p:cNvSpPr/>
            <p:nvPr/>
          </p:nvSpPr>
          <p:spPr>
            <a:xfrm>
              <a:off x="5951520" y="4130640"/>
              <a:ext cx="17809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38680" y="4394160"/>
                  <a:ext cx="2451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280" y="15228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1101600" y="6480"/>
            <a:ext cx="8012520" cy="733320"/>
            <a:chOff x="1101600" y="6480"/>
            <a:chExt cx="8012520" cy="733320"/>
          </a:xfrm>
        </p:grpSpPr>
        <p:sp>
          <p:nvSpPr>
            <p:cNvPr id="99" name=""/>
            <p:cNvSpPr/>
            <p:nvPr/>
          </p:nvSpPr>
          <p:spPr>
            <a:xfrm>
              <a:off x="1101600" y="142920"/>
              <a:ext cx="54864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080" y="6480"/>
              <a:ext cx="274104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 TO THIS NODE.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PENDENT SOURCE IS J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OTHER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52280"/>
          <a:ext cx="541980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5419800" cy="2259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320" y="76320"/>
                <a:ext cx="121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817600" y="304920"/>
            <a:ext cx="220752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LOOP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USE OHM’S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838080"/>
            <a:ext cx="1418760" cy="1066680"/>
            <a:chOff x="1447920" y="838080"/>
            <a:chExt cx="1418760" cy="1066680"/>
          </a:xfrm>
        </p:grpSpPr>
        <p:sp>
          <p:nvSpPr>
            <p:cNvPr id="109" name=""/>
            <p:cNvSpPr/>
            <p:nvPr/>
          </p:nvSpPr>
          <p:spPr>
            <a:xfrm>
              <a:off x="1447920" y="838080"/>
              <a:ext cx="1418760" cy="106668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480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528"/>
                  </a:lnTo>
                  <a:lnTo>
                    <a:pt x="144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3760" y="900720"/>
              <a:ext cx="12780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VL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I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001600" y="2489040"/>
            <a:ext cx="5057640" cy="1396800"/>
            <a:chOff x="2001600" y="2489040"/>
            <a:chExt cx="5057640" cy="1396800"/>
          </a:xfrm>
        </p:grpSpPr>
        <p:sp>
          <p:nvSpPr>
            <p:cNvPr id="112" name=""/>
            <p:cNvSpPr/>
            <p:nvPr/>
          </p:nvSpPr>
          <p:spPr>
            <a:xfrm>
              <a:off x="2001600" y="2489040"/>
              <a:ext cx="505764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DEPENDENT SOURCE IS ONE MORE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215800" y="3123000"/>
            <a:ext cx="4084920" cy="76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5800" y="3123000"/>
                      <a:ext cx="4084920" cy="762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5" name=""/>
          <p:cNvGrpSpPr/>
          <p:nvPr/>
        </p:nvGrpSpPr>
        <p:grpSpPr>
          <a:xfrm>
            <a:off x="2154600" y="4011480"/>
            <a:ext cx="5179320" cy="1154160"/>
            <a:chOff x="2154600" y="4011480"/>
            <a:chExt cx="5179320" cy="1154160"/>
          </a:xfrm>
        </p:grpSpPr>
        <p:sp>
          <p:nvSpPr>
            <p:cNvPr id="116" name=""/>
            <p:cNvSpPr/>
            <p:nvPr/>
          </p:nvSpPr>
          <p:spPr>
            <a:xfrm>
              <a:off x="2154600" y="4011480"/>
              <a:ext cx="517932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QUATION FOR THE 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ROVIDES THE ADDITIONAL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454120" y="4586040"/>
            <a:ext cx="1435320" cy="57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4120" y="4586040"/>
                      <a:ext cx="1435320" cy="579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95400" y="5230800"/>
            <a:ext cx="3960360" cy="871560"/>
            <a:chOff x="95400" y="5230800"/>
            <a:chExt cx="3960360" cy="871560"/>
          </a:xfrm>
        </p:grpSpPr>
        <p:sp>
          <p:nvSpPr>
            <p:cNvPr id="120" name=""/>
            <p:cNvSpPr/>
            <p:nvPr/>
          </p:nvSpPr>
          <p:spPr>
            <a:xfrm>
              <a:off x="95400" y="5230800"/>
              <a:ext cx="396036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AND SOLVE FOR CURRENT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Conso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80880" y="5562720"/>
            <a:ext cx="1359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5562720"/>
                      <a:ext cx="1359000" cy="539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4589280" y="5257800"/>
            <a:ext cx="3024360" cy="787320"/>
            <a:chOff x="4589280" y="5257800"/>
            <a:chExt cx="3024360" cy="787320"/>
          </a:xfrm>
        </p:grpSpPr>
        <p:sp>
          <p:nvSpPr>
            <p:cNvPr id="124" name=""/>
            <p:cNvSpPr/>
            <p:nvPr/>
          </p:nvSpPr>
          <p:spPr>
            <a:xfrm>
              <a:off x="4589280" y="5306760"/>
              <a:ext cx="187200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FINALLY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6324480" y="5257800"/>
            <a:ext cx="128916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5257800"/>
                      <a:ext cx="1289160" cy="7873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410080" cy="2768760"/>
            <a:chOff x="0" y="0"/>
            <a:chExt cx="5410080" cy="2768760"/>
          </a:xfrm>
        </p:grpSpPr>
        <p:graphicFrame>
          <p:nvGraphicFramePr>
            <p:cNvPr id="131" name=""/>
            <p:cNvGraphicFramePr/>
            <p:nvPr/>
          </p:nvGraphicFramePr>
          <p:xfrm>
            <a:off x="0" y="880920"/>
            <a:ext cx="5410080" cy="18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80920"/>
                      <a:ext cx="5410080" cy="188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0" y="0"/>
                  <a:ext cx="18288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"/>
          <p:cNvSpPr/>
          <p:nvPr/>
        </p:nvSpPr>
        <p:spPr>
          <a:xfrm>
            <a:off x="5505120" y="457200"/>
            <a:ext cx="3594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ON THE LEFT -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-PAIR ON RIGHT -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371600"/>
            <a:ext cx="761400" cy="990360"/>
            <a:chOff x="990720" y="1371600"/>
            <a:chExt cx="761400" cy="990360"/>
          </a:xfrm>
        </p:grpSpPr>
        <p:sp>
          <p:nvSpPr>
            <p:cNvPr id="136" name=""/>
            <p:cNvSpPr/>
            <p:nvPr/>
          </p:nvSpPr>
          <p:spPr>
            <a:xfrm>
              <a:off x="990720" y="1371600"/>
              <a:ext cx="761400" cy="99036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48" y="384"/>
                  </a:moveTo>
                  <a:lnTo>
                    <a:pt x="48" y="0"/>
                  </a:ln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960" y="14616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57400" y="2743200"/>
            <a:ext cx="3262320" cy="762120"/>
            <a:chOff x="1157400" y="2743200"/>
            <a:chExt cx="3262320" cy="762120"/>
          </a:xfrm>
        </p:grpSpPr>
        <p:graphicFrame>
          <p:nvGraphicFramePr>
            <p:cNvPr id="139" name=""/>
            <p:cNvGraphicFramePr/>
            <p:nvPr/>
          </p:nvGraphicFramePr>
          <p:xfrm>
            <a:off x="1157400" y="3044880"/>
            <a:ext cx="326232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57400" y="3044880"/>
                      <a:ext cx="3262320" cy="46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159200" y="27432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00400" y="3429000"/>
            <a:ext cx="4292640" cy="822240"/>
            <a:chOff x="3200400" y="3429000"/>
            <a:chExt cx="4292640" cy="822240"/>
          </a:xfrm>
        </p:grpSpPr>
        <p:graphicFrame>
          <p:nvGraphicFramePr>
            <p:cNvPr id="143" name=""/>
            <p:cNvGraphicFramePr/>
            <p:nvPr/>
          </p:nvGraphicFramePr>
          <p:xfrm>
            <a:off x="3200400" y="3581280"/>
            <a:ext cx="1932120" cy="55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581280"/>
                      <a:ext cx="1932120" cy="55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105520" y="3429000"/>
            <a:ext cx="2387520" cy="82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429000"/>
                      <a:ext cx="2387520" cy="822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5057640" y="4267080"/>
            <a:ext cx="25275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SO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838080"/>
            <a:ext cx="1735920" cy="533160"/>
            <a:chOff x="2971800" y="838080"/>
            <a:chExt cx="1735920" cy="533160"/>
          </a:xfrm>
        </p:grpSpPr>
        <p:sp>
          <p:nvSpPr>
            <p:cNvPr id="149" name=""/>
            <p:cNvSpPr/>
            <p:nvPr/>
          </p:nvSpPr>
          <p:spPr>
            <a:xfrm>
              <a:off x="4206960" y="83808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1142640"/>
              <a:ext cx="144756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06560" y="4267080"/>
            <a:ext cx="2041200" cy="1066680"/>
            <a:chOff x="1006560" y="4267080"/>
            <a:chExt cx="2041200" cy="10666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08360" y="4581000"/>
                  <a:ext cx="203940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1006560" y="4267080"/>
              <a:ext cx="5007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3048120" y="4724280"/>
          <a:ext cx="2514600" cy="6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724280"/>
                    <a:ext cx="2514600" cy="628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990720" y="5410080"/>
            <a:ext cx="4876200" cy="914040"/>
            <a:chOff x="990720" y="5410080"/>
            <a:chExt cx="4876200" cy="91404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5410080"/>
            <a:ext cx="2505240" cy="91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410080"/>
                      <a:ext cx="2505240" cy="914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497400" y="5410080"/>
            <a:ext cx="2369520" cy="90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7400" y="5410080"/>
                      <a:ext cx="2369520" cy="907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860904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49:34Z</dcterms:created>
  <dc:creator>student</dc:creator>
  <dc:description/>
  <dc:language>en-US</dc:language>
  <cp:lastModifiedBy>Jorge Aravena</cp:lastModifiedBy>
  <dcterms:modified xsi:type="dcterms:W3CDTF">2004-07-25T15:12:27Z</dcterms:modified>
  <cp:revision>8</cp:revision>
  <dc:subject/>
  <dc:title>No Slide Title</dc:title>
</cp:coreProperties>
</file>